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B287-DDEB-41BA-B1AA-5211A4DEC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59C6-B860-4284-A12C-A464FBC5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B32-3063-416C-8B5D-35511AFF6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CAEE-6E69-4414-B1C1-F2554531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74F-4744-4089-8F66-49563453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E648-A640-4821-8295-1FFA3A10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1B29-63BE-48A5-910C-601E0A346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3645-A5D5-4588-8F28-F69F5DAA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9044-84C8-4CE2-B28C-D46E46B5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7C43-FC0E-438F-B50D-FA9A1763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8F73-18C5-4B93-9CC4-F7F80C8B9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BC09-A662-42C9-9BE8-7DEF8AEB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3FF-BF32-451A-AF2C-1E6CA960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D39-2D78-484A-BBA3-1A2F35C74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4AA4-7FA5-4414-A40C-94EAF32D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4B02-26F2-4C7D-A800-951E8FDFD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5298-441F-47BE-947E-6ADE135C3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8C4D-52E0-4F21-B8B2-438DC475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DC1-C0C6-4966-92BE-C2C9EE04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A851-CFC1-4C72-8C94-033BC2F7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E47B-4699-487A-B875-F4F087914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D5F-EA87-424B-BDF3-ED7CE9AF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E058-56A8-4CBB-ABA3-10CF538F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D24-C8A8-4D22-A703-1C37EC02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D2A7-21FB-476B-BD52-FF1588013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61F4-40EF-4916-844C-38C549C1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FD64-1B6F-4658-AEE8-B955C8F21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6D2C-6565-43A1-A98E-ADF69A69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466A-3E62-4402-A6D7-770866CF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58C-2657-4456-B684-37F613A4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A4A1-E972-43AD-8AF4-70A51B03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CD0-533E-4C94-B463-8C2B98FD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713-0A58-4751-ACEA-9CBC5B16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608-3F5C-4DF9-9149-6F95EFF5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9AD-4B50-4AB4-AACA-1AFC1090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AAB-4DD7-4E60-B958-2830A3EB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AF3-0D23-404F-8E12-25058A05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487-05D6-4D76-9213-FFA55924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E3D-B090-4A49-B308-DDD1690A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AFA-D17D-4AD3-B5EA-8206FEF6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608-59BC-4ABA-9813-B8BBE74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DDA-C57B-4D4E-99F4-688BE4B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E18-3F0E-4AA5-9B5A-E8A1E19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534-102F-48E5-8546-A78632B3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s J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JERRAMS JOSEPHINE Run 1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3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 C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WAGSTAFF CHRISTOPHER Run 3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1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AGSTAFF CHRISTOPHER Run 5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43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uble wire and predi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AGSTAFF CHRISTOPHER Run 8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4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al stent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WAGSTAFF CHRISTOPHER Run 12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8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y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AGSTAFF CHRISTOPHER Run 13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y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WAGSTAFF CHRISTOPHER Run 15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8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WAGSTAFF CHRISTOPHER Run 16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9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AGSTAFF CHRISTOPHER Run 16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9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di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WAGSTAFF CHRISTOPHER Run 17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6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8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wop wire and MV 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AGSTAFF CHRISTOPHER Run 20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9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uble wire and predi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JERRAMS JOSEPHINE Run 2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4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WAGSTAFF CHRISTOPHER Run 22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2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al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WAGSTAFF CHRISTOPHER Run 29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39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 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BIGNELL ERIC Run 8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44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IGNELL ERIC Run 9.wmv" descr=""/>
          <p:cNvPicPr/>
          <p:nvPr/>
        </p:nvPicPr>
        <p:blipFill>
          <a:blip r:embed="rId1"/>
          <a:stretch/>
        </p:blipFill>
        <p:spPr>
          <a:xfrm>
            <a:off x="3692520" y="760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9 years o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ctured N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aemic 11 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F with Cr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S day after admission with deep T wave inversion and trop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prepared to anaesthetise him without angi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eed if they would operate on DA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633600"/>
            <a:ext cx="30081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413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BIGNELL ERIC Run 10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GNELL ERIC Run 16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446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5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IGNELL ERIC Run 19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BIGNELL ERIC Run 23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52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GNELL ERIC Run 26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626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8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BIGNELL ERIC Run 27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51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ploy Tryton in side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JERRAMS JOSEPHINE Run 4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3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BIGNELL ERIC Run 28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566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0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 dilate and swop SB wire then deploy main vessel 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JERRAMS JOSEPHINE Run 11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73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al ki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JERRAMS JOSEPHINE Run 15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53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 month 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JERRAMS JOSEPHINE Run 14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 month 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JERRAMS JOSEPHINE Run 2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 month 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JERRAMS JOSEPHINE Run 14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 month 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JERRAMS JOSEPHINE Run 25.wmv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4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0:27:56Z</dcterms:created>
  <dc:creator>Medcon-tcs</dc:creator>
  <dc:description/>
  <dc:language>en-US</dc:language>
  <cp:lastModifiedBy>MCL</cp:lastModifiedBy>
  <dcterms:modified xsi:type="dcterms:W3CDTF">2011-03-24T08:28:22Z</dcterms:modified>
  <cp:revision>10</cp:revision>
  <dc:subject/>
  <dc:title>Slide 1</dc:title>
</cp:coreProperties>
</file>